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641-1883-4B1B-B1F2-CBB922C4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755B-A4AB-430E-9669-C3DBD4B2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CA6-EB65-4390-97DA-EDA0396D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2B9B-4807-4DF9-BC66-4C9BD184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4E10-B4DE-42E4-8E9D-B079E230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A048-D97E-456A-98AF-F31EA27A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4FE0-F84C-41B5-A358-9444C911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7DCD-15A4-42C8-8865-21599445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21C5-24C9-4965-985F-994D403C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0945-2A04-4AD0-8220-63E32770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236-5F34-45C1-A749-320CF47B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1A6D-2344-4835-863E-04B91B8F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FE40-0FE3-45A5-A86F-15B6F7966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know that Abraham Lincoln was the most honest person on earth but till he died. John Booth, he was out of his mind to kill a very nice president and this is how we treat this nice and his name is Abraham Lincol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114800" y="358128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 our first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a survey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ll got sick and DIED even   tough he chopped down that cherry tree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352680" y="3809880"/>
            <a:ext cx="36435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21:33:31Z</dcterms:created>
  <dc:creator>Carolyn Spielmann</dc:creator>
  <dc:description/>
  <dc:language>en-US</dc:language>
  <cp:lastModifiedBy>Carolyn Spielmann</cp:lastModifiedBy>
  <dcterms:modified xsi:type="dcterms:W3CDTF">2010-02-08T21:41:45Z</dcterms:modified>
  <cp:revision>4</cp:revision>
  <dc:subject/>
  <dc:title>Comparing president </dc:title>
</cp:coreProperties>
</file>